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51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e Spanish-American Wa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1649520" y="3106800"/>
            <a:ext cx="7010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Day 2 Reflection Question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algn="ctr"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Do American actions always match American ideals?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Sacerdote, Kevin R.</cp:lastModifiedBy>
  <dcterms:modified xsi:type="dcterms:W3CDTF">2015-11-01T19:07:56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